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0.jpeg" ContentType="image/jpeg"/>
  <Override PartName="/ppt/media/image19.png" ContentType="image/png"/>
  <Override PartName="/ppt/media/image11.jpeg" ContentType="image/jpeg"/>
  <Override PartName="/ppt/media/image9.jpeg" ContentType="image/jpeg"/>
  <Override PartName="/ppt/media/image7.jpeg" ContentType="image/jpeg"/>
  <Override PartName="/ppt/media/image23.wmf" ContentType="image/x-wmf"/>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1.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71"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2" name="PlaceHolder 2"/>
          <p:cNvSpPr>
            <a:spLocks noGrp="1"/>
          </p:cNvSpPr>
          <p:nvPr>
            <p:ph type="dt" idx="80"/>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3"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74"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5" name="PlaceHolder 5"/>
          <p:cNvSpPr>
            <a:spLocks noGrp="1"/>
          </p:cNvSpPr>
          <p:nvPr>
            <p:ph type="ftr" idx="81"/>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6" name="PlaceHolder 6"/>
          <p:cNvSpPr>
            <a:spLocks noGrp="1"/>
          </p:cNvSpPr>
          <p:nvPr>
            <p:ph type="sldNum" idx="82"/>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3262F53-382E-44AE-BEE8-BCA39F671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2895480" y="525600"/>
            <a:ext cx="3505320" cy="2628720"/>
          </a:xfrm>
          <a:prstGeom prst="rect">
            <a:avLst/>
          </a:prstGeom>
          <a:ln w="0">
            <a:noFill/>
          </a:ln>
        </p:spPr>
      </p:sp>
      <p:sp>
        <p:nvSpPr>
          <p:cNvPr id="218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8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C0F840-96C3-460A-B4A8-FD0E6654CA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2895480" y="525600"/>
            <a:ext cx="3505320" cy="2628720"/>
          </a:xfrm>
          <a:prstGeom prst="rect">
            <a:avLst/>
          </a:prstGeom>
          <a:ln w="0">
            <a:noFill/>
          </a:ln>
        </p:spPr>
      </p:sp>
      <p:sp>
        <p:nvSpPr>
          <p:cNvPr id="218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8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413E4A-B5CB-4C49-958C-B215024B83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2895480" y="525600"/>
            <a:ext cx="3505320" cy="2628720"/>
          </a:xfrm>
          <a:prstGeom prst="rect">
            <a:avLst/>
          </a:prstGeom>
          <a:ln w="0">
            <a:noFill/>
          </a:ln>
        </p:spPr>
      </p:sp>
      <p:sp>
        <p:nvSpPr>
          <p:cNvPr id="218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8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63609E-6A65-4FE3-8163-487288151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2895480" y="525600"/>
            <a:ext cx="3505320" cy="2628720"/>
          </a:xfrm>
          <a:prstGeom prst="rect">
            <a:avLst/>
          </a:prstGeom>
          <a:ln w="0">
            <a:noFill/>
          </a:ln>
        </p:spPr>
      </p:sp>
      <p:sp>
        <p:nvSpPr>
          <p:cNvPr id="219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9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DD871B3-4D77-4B86-8C47-2DC5F9B46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2895480" y="525600"/>
            <a:ext cx="3505320" cy="2628720"/>
          </a:xfrm>
          <a:prstGeom prst="rect">
            <a:avLst/>
          </a:prstGeom>
          <a:ln w="0">
            <a:noFill/>
          </a:ln>
        </p:spPr>
      </p:sp>
      <p:sp>
        <p:nvSpPr>
          <p:cNvPr id="219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9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F731DCA-AE1D-48A3-BDCB-C2B498C33D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2895480" y="525600"/>
            <a:ext cx="3505320" cy="2628720"/>
          </a:xfrm>
          <a:prstGeom prst="rect">
            <a:avLst/>
          </a:prstGeom>
          <a:ln w="0">
            <a:noFill/>
          </a:ln>
        </p:spPr>
      </p:sp>
      <p:sp>
        <p:nvSpPr>
          <p:cNvPr id="219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2895480" y="525600"/>
            <a:ext cx="3505320" cy="2628720"/>
          </a:xfrm>
          <a:prstGeom prst="rect">
            <a:avLst/>
          </a:prstGeom>
          <a:ln w="0">
            <a:noFill/>
          </a:ln>
        </p:spPr>
      </p:sp>
      <p:sp>
        <p:nvSpPr>
          <p:cNvPr id="21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20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9756804-EB19-471D-8245-3FBF08139E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2895480" y="525600"/>
            <a:ext cx="3505320" cy="2628720"/>
          </a:xfrm>
          <a:prstGeom prst="rect">
            <a:avLst/>
          </a:prstGeom>
          <a:ln w="0">
            <a:noFill/>
          </a:ln>
        </p:spPr>
      </p:sp>
      <p:sp>
        <p:nvSpPr>
          <p:cNvPr id="217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2895480" y="525600"/>
            <a:ext cx="3505320" cy="2628720"/>
          </a:xfrm>
          <a:prstGeom prst="rect">
            <a:avLst/>
          </a:prstGeom>
          <a:ln w="0">
            <a:noFill/>
          </a:ln>
        </p:spPr>
      </p:sp>
      <p:sp>
        <p:nvSpPr>
          <p:cNvPr id="21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8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3ABA2CD-27BD-4689-A347-B7D97DCEB6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CE759-C86E-45C1-851C-167E66E6D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15B618-2470-442D-BF5A-EA3A3F539C4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44DA977-B1FC-49DA-A306-9B20965606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87CE2A8C-A9D5-48FA-A500-86A668A839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645CC084-5049-4383-8E09-C619F87CB9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29F8CB3-667A-4144-A284-D525D9A804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406D3EE-848B-4F78-9D40-54F8328CB6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3A700F8-33E4-42BE-A07F-6B3060261BF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4A2E393-C567-4FE0-8142-F34BB27BEF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CF5DC478-4962-4CDA-8F91-57322DCB1F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E977E8B4-E1B4-4274-892C-D17993A706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5D91C9E-EB12-4DB9-A7AB-FE034A4C0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AE01CB-445B-4279-8635-8C3535D4D9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7DE392C-660C-4BE5-8603-7AF9AAF3DB2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2910B2B6-FCFD-475F-A661-42418951A9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1B0C0BA-7F53-487F-A15B-CC360C3F98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054933EE-A01B-4BEE-A565-DAF2A2E50C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CA7C5E7F-E971-42EC-ADD8-979919AE9B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8F4217E-44C1-4BF4-9C11-17FC3C3C03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C44F3CC-687F-434A-95CD-B79D51F20F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FA607D1-D7B5-41B4-A737-1C562FD54E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8C8E5AC-40EF-430A-A716-9833D53FA66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C478793B-EB8E-4F31-8B27-B62F77486E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3714254-A9E2-4606-82B4-D219EB5D07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BC5E0154-24C0-4722-9F1C-6AB90EC086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1C1E28D-B115-4C10-8B07-287EEC359B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1BD73B5-5D1D-4F58-AEFF-1E95F7963C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DC512D9-20A1-4F86-B4E2-A2BF830677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C7BCD81-4751-4DD5-B60F-13F847604D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F84F73D7-A9F9-489B-B58F-1613AB3536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9030FB7-2596-44F6-96BE-A9905FB928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BA2438B-BE28-49DF-B254-5DA1F5C08F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DCDE6BE-35D4-48DE-9A78-F6184C54860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1CEDC9F-7B64-4B11-B753-B752B0F464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71F8B2-169B-4722-8042-251BAE75A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F326815-9C91-420A-9B32-0D04BF2660D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689ECA4-778E-4EB9-BF3C-A27E7ADF71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9252A35-5090-401F-913C-F4524751FA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D9904EA-FE2B-4868-A14B-D33A1221E3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4B13AD8-FF20-4C83-81C3-4198611C62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D73B51A-A5B9-4113-A88C-E89588B56F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405B702-7955-4A7E-85CE-411C35E643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4D7AA7EF-268D-43C7-A27F-D57851468E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6185DA2-6A31-4B62-A324-6FA8CA260D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5C77298-3C40-4D52-918C-483D5ED899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0184BE-D036-4F34-B472-A59BEB050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ADF2787-1EAB-4A2C-987A-7614830A8A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3FAA664-12EB-4121-B284-E972CF24DB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D86C22B-A99A-4A19-900D-B8D38003BE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765E595-2B71-4281-99CB-6F042E68C2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1D3782B-3358-40B0-9A4E-F347937DA25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E85F9B5-2651-419C-B401-EBCD1F011BC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D6F1FEE9-F09A-4ED4-83BF-28E970C36C0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EB3FAD79-862E-4E55-90D8-3E552CB52B8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BDF1BB2-DF14-40A8-8408-7DBBD339367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75C15F6D-1A2E-468E-A136-AF0473F04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6116BC-EBB3-4FFD-AA3C-909AB6D53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53F1A163-CA20-470D-AF58-4171368861B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4D2862F-F1D0-4918-B088-116D2E76677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E3A6A3D-0E81-4E64-B4C6-56479B58DD4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9042D6F8-BA72-489E-9505-E4FDF61CFBE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C572107A-5BA8-44CF-B527-CFFE8F630C5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DF72E5BD-26C7-403D-9406-CD949176D1D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149CBAD7-71F7-41EC-9EBB-98374031613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571B053-F0D7-423A-89E0-8B740D939B2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B6A1C0F-0219-4826-AEF9-41E23CFFC06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05A661B8-BECF-439C-9933-3FE29601D0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22415E-AC9D-4421-8EC1-1562A0042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EEB570E4-FE64-4C7B-8610-BE8311BF82D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67BF0402-CE82-4F0A-80FF-BB68DED1FC9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29EA8E6B-8E0C-4F7E-AAC4-F6868AE662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0E31D3F-E008-4E3B-B968-9FBDECAB21B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3210DF4-E63A-42ED-9656-A0FD6891589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C75B75E-135B-42BD-9550-A909446DE79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22A74A87-AA25-46C8-B93E-4C015391ED2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1E9CF342-05CD-4061-B7CB-AD1E311CD7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F8C26D7A-A631-42B0-9F21-53DD142158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10B9339-16D7-49CD-9C15-D1E59D711A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1EE7BF-4F1C-490F-B697-4E0704FF0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F8422E43-6100-4D61-8D5D-9E22878783F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00AF05C-E698-47D5-9932-AB0A0802EFB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00C4DFD0-B10D-47C6-B95D-1606C8C8E27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244D222C-94CF-4884-B982-86583D462C3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D0BA06F8-0898-4CD2-AD33-894D70549CA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211DB5D-F08B-46FC-BABC-3486BB9EF94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7731430-75C3-4126-826A-7CDE32412C2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231208D-71FA-49F4-BAF9-D6C51C50571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63CF2E53-8DFF-4B1B-964F-71ABBD968EC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3633174B-7686-4FE2-B279-E04A383E91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841A27-B6BC-4ABA-AA23-6D29F80F0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1548A643-FAA2-44B2-9F1B-9E5C0B80674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F199653-B543-464C-8B97-66BE1D3114F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7A409D6-54C1-4B39-B58A-44A19C12282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811AC46-6763-40F5-824D-E1B41B5D0F9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F24D924-338B-4393-AFB8-4A82193B094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4706DDE4-373A-44FC-9041-5A56D32E8E3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F1DE997-A4AD-446F-B147-9FF2B4180F7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A679357-D14B-46D6-B94C-0040397283A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0918C85-C37D-4B20-825B-88807F524E1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F31BA8E-0B4A-42E0-A212-2107CD0573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34548C-A371-408F-A764-46294A0F5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0866BEC-D30F-440B-B0F9-6280D1161E6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9B1FABF-4742-4D89-8450-3ED06A1DD61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B9EE322-FFC7-4C60-A0D7-030247F4260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92DDDAE-5D55-49FE-B8F4-181B240A960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3F3E3BD-9E0E-48C4-BC47-B2B3EEC57FF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E855CF6F-0EE2-4DF3-B4D7-95802888E66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FDAD728-93B0-4E3F-AAB8-2007A0E96DA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F906D1A6-17E2-4D79-A7BE-F57666FA3DF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785CF3C7-9BA2-4EFF-8BBE-BBC0871F1F5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6343925-ED6A-4319-B111-D44D25A654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16E5D5-0256-4402-9FBA-2B96AE7BD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D10565-5680-43E0-9586-D7AC59886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48A2F81-71E3-49AD-9749-36989A3F40D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D63EA7B2-5B07-485F-9480-388DA9E6E3D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09FDAF20-7251-4DCB-BB7B-EAA8DEF4821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E9756A44-C804-4BC3-AA99-7FA25AA9EF5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F56D5F98-2784-470C-A5CC-96433B8D962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92E690A-DC11-4BA6-98AD-19961CBDD82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E1C8AC4-9B64-4934-BCB4-3314DCAB7E3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2AB3EA2-9F5A-42F2-8A1B-5C31CB592C1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2B23A42-7D5B-40CF-8968-281EF8B1250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958EAD94-B742-4164-AC63-572918D636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4D1696-BC18-4E1C-86D0-3158B88A1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7C5B31C-333E-4EC6-A64B-E02B98E2A88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BB7CC74-1495-4FFB-A6AF-E0D0F4D2A1A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A55200B-C123-4B9E-BDE8-E4EAAF2B651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D81F790-751A-402F-9CCF-6AB6889AC01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8F7B09B-7EA6-469F-8115-72483F0734B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B74C7F9F-887B-44AD-AFC2-5EF97037DF8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03C0B723-3828-4F89-A156-D2C195198CF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5659009-D21E-4ECB-885F-104DE54D23B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F91B681-DD42-4CE2-AA9D-FCDF200F586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175E4172-F65F-409D-B4FE-6F0CF0C129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CB89A0-57D8-4C3E-A91E-ED2F83151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7E7AB8EB-47C9-4885-AE9C-354F3D24DCB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B5F9F8D0-CB5E-4947-A720-AFB7650E21B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6559835A-ED22-4C77-892B-9606C657DE1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699785C1-6083-421E-A592-E2A27CAB244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7E568FD-D7CC-46B1-932D-5F4E47C029F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F8F04DFF-D489-44E7-A5C8-38B6285983B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53223407-300A-43CE-9410-C508A84F1CB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B6ED395C-2F3E-437F-AB75-9169ECD9215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CE22FC36-85C8-4D08-96DD-A62D9634B33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4D0EB83-C53A-469C-9F17-F7A895F1B1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E37FFE-1B13-472B-B803-483D9BCE4A8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CA3BBBB-9BC3-41BE-BE03-1ED6D3DB4A7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567C0E1-C96C-4ED1-8FD4-60FAD2689ED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1397977-D473-4C11-87E5-90B56ED33EA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8C90022B-BA7F-4AEC-A036-F4DBB7D48F7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A789989-BCA6-48CB-B1FF-718DB97442F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D7600D7-624B-4F2F-B613-FEFCA79563C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5B58BD1-CF15-4CB6-BC5D-84AC270688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9868EB0-18DD-423B-9025-7079E2F77B5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2673326-12B5-4088-B48A-6073AA008EF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1EA5F13-9ADA-4AF6-80AE-4879741A45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A780E5-6FC2-47B7-A965-A4809DBE42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54B629C-D7FB-4EAC-B178-87958F9430C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A4B6D55-7937-4806-8F92-44182F6D112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E98A7F3-3CAB-47C5-882B-522BF675A1B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026DE36-5A24-445E-8E33-0A189293FA1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9BD65B3-E9FE-4951-82BF-1C731921C38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104D6E6A-414B-487F-9F3B-BC47E755381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AA6568D0-B70A-4A57-BFE8-8082029A405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6BAB5E3-E68D-43CB-ADF8-2587172BDB3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5A85B88-4DA9-4A77-B4F8-CF8C0C4AAB4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6E3E501-7D85-4E45-BF2D-54C7CCA5B5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51F187A-1231-4CD5-8904-2B95D44CCD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D18FEDE-E80C-4AED-8EEE-ACCFAF78BFE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E575339-2440-4B07-B492-DE448A08212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5B90C6C-377B-42E7-BF4E-D91F1D5C99C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9860890-6A0F-4D89-BDD7-99FEAE78841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45AA569-FB57-48D6-868C-7B5F617A4DE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E385371-7511-400F-BF19-133BE887976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DB1DDEE-5F34-4ED6-9612-CE544840883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5FB900C2-ACEC-4B40-A079-76AA8BE5573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D444B87-0F36-451B-9935-58D9DBC13BC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06156AE-E053-42B2-8F13-DC377C301F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583BA7-F027-4CBF-B87B-77CB29965F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F12D1C8-5EA3-4599-B841-370B82F1B2F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B060985-0832-4DF3-9269-3A16EAAFE87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C428215-F8F2-4937-B9E6-4E47BE0EE62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74C8282-F897-471A-9B1F-D53750C5221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772CD9A-D018-48D8-9F81-DAFFF1FBC69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05AEE845-88BD-4628-A4FC-1C5E14093BA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AE1755A4-2E5C-4E59-BF1C-5B267297C45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524B9CF9-AF47-429A-AE09-DFABF1260D5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018B8371-4D48-46E8-B9C5-5BE8CCFD5B7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F95B7C11-B149-490F-9D14-343197A72E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78344A-A06E-4A83-9685-75CD331342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2C7C44F-D6BB-4AE3-8251-BCFBE329BBE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73AF4240-110B-4A3D-BB59-FD3DF386E02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9C7DCAD-7C4D-42F0-8CED-6817F9C5C74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5EA1ABA-E189-4D0E-AA14-903052C43CE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B1B904E5-D01A-4E6D-A3EC-E47AA5EC343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B443415B-20D3-4FFB-9B0A-8AF8C049184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4961F7E6-C49F-47FE-89E7-A376C584568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E27E9AA-1355-4C81-A7B6-AFE0DDA6906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FE57FCF-A3F3-4431-BA68-067BFEDE126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9DEE1F0-1286-46A4-8C6B-E0097EE106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EF3C86-D2E9-4AFA-8812-E59E2E5E33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19F427D-6867-4583-95FA-195EC2EAC41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87A3E7-AF0D-4F31-9AFD-1F99AF5E2E5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593C555-F257-4E8B-8CC4-85912140023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F9B8B9E-2D25-4143-B466-19457BCFAA5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8C2A6F-0CE2-48DF-AEFB-D926898D164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56B151E-0084-4539-BE2D-BA20102F3E2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7172FA4-77B4-4B2E-A529-E788A1EF5AF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A9DDBCC-A513-41C7-A703-A471C9665CE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43DFE78-8436-4368-B3F2-C7E2ACC99B8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F42A89E-E11B-449D-92FC-B40A9EA4BA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E3A848-67B9-4F58-AAA4-448B8A0CB3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E3F7FA-8C8D-4AC2-9419-DD13B796BF2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D7FB60A-8BD3-467E-B464-93ED3BD3AF5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D26152-0F76-47C0-822D-C2DD9B2F588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56F41FE-E4C6-42E0-A10A-74C125D50DF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C2A81B8-3D34-4FDE-ADBE-A64E70764F0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7D98C9-11EE-4C80-A660-AA4107B8F7E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2314E4-A7B2-45C5-A807-D20E2142B9E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86A7E4-1DC5-4267-9A39-55FF63AACFE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9ED60C9-939A-4961-AA77-23745064831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F98AF92-8CB9-4589-A6E6-C1CBC0BEB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E1BB38-A3F3-4DB6-A9FB-E23127D361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4D59CF-5A87-4F59-8871-4B15C71BC0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36FD982-0ADF-42EE-B547-37CB7B409F3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0ABF1A5C-1A4A-466B-BDC8-6CA8DFC7A14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4346E07D-4332-4275-A7AA-636ADFBA72B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367BD47A-6899-4EB3-B635-E2C3DB5E7B1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C7F2C78F-477F-44D4-8DDE-15903846A3E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255888B7-FFD2-4109-8942-DA31D9EA2F5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7C306EDC-2CD3-4FD2-8360-CC738F4AD43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8DF4293-940A-4A4E-BBC2-097155FBF3F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A14DB9A-3314-406C-988D-FD17D15927E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3C6B8DB-5550-4479-91A1-6A931FE692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149AEE-B0E6-4B69-BA6E-8D5A78295A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A5DA2854-D8FC-429E-B04D-69B3FAF8197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799D3FCB-A9F6-4246-955E-FC7064B84DB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FE688A65-0037-4E3B-9A4A-DB6F12C5C74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DC86698-0F48-44CE-B9F5-CF0359B856B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5920E7B0-0E2F-430F-976F-368BBC635FE3}"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5F9DF942-9F13-4588-9252-D6440DD884A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0D8C68B0-1E97-454D-8EB5-12AC01527FD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54C520E6-04B2-4318-B562-04C2264BAC5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520D5493-8E92-4CD8-B723-AF7A021AD31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415C2606-512F-4787-965D-078B020C17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D5072B-D97E-4E5C-8B22-4C0400685E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81B0A04-49C7-4D3E-A2CE-C680D0EAE60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BD07205-90D2-464A-B460-38F29CDE427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A9586CEA-CCB2-4902-8ECF-A44DC7F0C6C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0F2AB0E3-3A3B-4C38-B9F3-7E3A569A8E0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E81489B1-119D-4FC4-83DD-06B7A0A7CA9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C3FF5553-77CD-4D8C-9D50-CB13955FEF0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FA08454E-3541-422D-BB49-252BC8D3092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1013D618-2DDF-4F70-A321-312241E0821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C44D53D8-C3A1-416B-B2DB-27EBC2B0F15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87D3DA9F-2EF2-4422-A901-1D68839607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DA5537-E620-44F2-9CCB-56FAD15925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88D5C5CF-6E8B-4027-A86C-49C0F9DCD25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6BE128BC-31DC-429E-9D63-54AA92F3F13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F6D6A292-D2AF-476D-944F-B336C5221B2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8CE5C81-A880-4964-A758-3E3A4D37EC8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6E7E142D-373F-4187-898F-6E57FEFADDF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05765D59-1216-4F3D-891D-40B44225B02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1A950474-6431-419C-B3EB-7CFF8053AB4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8A59045-B0B5-483E-8300-A9AF0CB34D4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D2254B96-D58E-4681-BA9E-202E0D39DFEF}"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8C6F64B3-8DD8-4AD0-ABC0-250B880459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89838D-F4A9-4E88-8878-8365F12931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54562E49-CB57-43EB-8C0D-AC78F947E0C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01B6ACFC-8EA1-4E73-B618-A7A4F864EBB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0192C7ED-562F-4B23-A0F9-2AE421AE638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77B8DF15-BE96-44AA-883C-DB49C11E53A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F63414D-B16C-43F0-9F2B-9339850D81A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43693F7-7593-4CE5-9239-4AC45497167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03C3E05B-6B2B-48CD-B44C-E0BF40EF01A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9F6AA6BC-9FF1-481F-A39F-326C7C5D731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9499F880-A1B7-4054-9843-5BA7AF561A4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761F21A-20C8-4C68-AC39-76940E9B9C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282854-1E7C-4D3D-8495-31ACAC82DE1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1D44909-5835-4C9B-ABDD-944D71EC092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2751D647-AE00-47EC-9049-9D1986E6E60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D4C3F1B4-D92B-4079-94A9-3A928D5A727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355FB244-45D7-4855-97BC-595D0D42710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01C08DAC-9323-4588-93DE-BCD53E530C0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60264E63-A383-4A14-8199-EEA0398BAE0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2B9E23E4-996E-41FF-B271-4F3310C2D75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89FCD37F-5244-49C6-8B9A-CB3C697072D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273581AA-4A4A-428E-AC2A-22B4F3F8035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954E0837-8217-471F-BFD6-44757ADC42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F64643A-D07A-4D25-B46C-E5EA886775C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6212AB8A-1F18-4485-B126-791F7FD0154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A218C70-1772-4DE1-8966-72DF5DA8A60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0DD47EB1-6E82-4153-A990-2500FF735EE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71401BD8-D65E-4310-903B-279A5FAC33E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C59F4B41-5AF9-4E01-95E3-D5A144B3772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F0FA0299-B511-45E3-BEC7-8762030D839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889883A6-03DA-457F-83CC-D273AC17FE8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179C442-1606-4C6C-BED0-8F9D58C22EF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5AEDA36E-5753-41B1-9257-8116630EA8F1}"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FC980E8-72A3-4D4B-AAB2-3ECF652D70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04EA03-5203-46BC-889F-5F4DB14C8D43}"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69C5F21-DD7B-45C8-A5D7-E3B8E815CB1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A3201DB7-5AF3-48D0-BB04-1F7414F875B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F536230E-19DD-48E9-9091-89664237F1B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D4CCA5BD-F13E-4B66-B99A-0E2D1173EC9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BA4E7AD4-8DA5-4E2A-B33A-88748460970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66A6DC8E-2214-4C0E-9F54-411EBD2DAA1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CDFAC9FA-7F8A-4A36-AE2A-4B28C9D31CD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014D0052-B24F-4E36-A8EB-C8432ADFDCC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14A3EF72-DAAA-40C2-B326-8C03BDAFAFD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29FDD4F4-1D1E-4D17-8C46-529500235D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027B628-63FE-46AC-82BB-EBDE571358E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D64C5DB4-A8E7-4B69-ACD8-27436B92E3C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AF5DF2E-2D11-47AD-A0E2-D425C260ACD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96DAE2BF-5158-418D-8522-F21E40489FB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5D9EA0AB-1707-488C-A4C6-6FDAE12D900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F4DF494C-172E-4069-B8DE-984F28058AC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31D538A-ECD2-4623-A8F6-6C64F10BA5D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C701DA58-AD0D-43B2-9ECD-05F7DED1B90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9AEE8510-FBFA-43BA-9113-88C8DF32CD6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2473130-7FEA-4AA5-84B1-ADB4D3B054BC}"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DE3275D1-058D-4D73-BCAD-AC969AE251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8DBA623-A20E-42F4-A22B-75849148B42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C8711F33-3AFA-494C-B79D-289A1F0B4CE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866ED098-5989-441C-8299-755AFEDAA0E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97AD9E40-0B53-48A8-8838-80238080EFA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7780B46D-ECBC-4AF0-BA77-89A29B411DA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4132AADD-A16C-4367-940D-B116AD244E2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94A916AF-0557-4E41-872E-E529FCA7BCE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6AAA15A6-CFF9-403C-9125-215278FE264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EACB11B4-C546-42D2-BE1F-C7C5CB796C7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9AE0C7C-6529-48CB-86CC-9A618B433BD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844F395-F669-4B34-ABAE-F2AE15B0E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1FD1C57-24A4-4FBC-84A2-2735A76BFB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AD07724-3671-4488-B9B6-BC71BDC7120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ACD112E-63ED-42E3-AECB-3D31C2C7950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EBB88FF-5E52-41A0-93B9-1D80A85D73F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6A03332-6225-4960-8FD2-A5D16B95B8E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7409DDB-C05C-4C60-87EB-1EAAC5B4D20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0DF7B70-68DE-4D96-B6CB-28D82A3831F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9F240D5-6EF0-4EF0-B527-F44EA2AB5AF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793CECB-73A3-4D7B-B061-51C315EDC559}"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0488B4BB-B3FF-4678-B118-A25990041CF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545CA856-6192-4EFF-8B8E-4FBE1A12007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8FAFD4EF-8173-4FA7-BC50-AB08AD7B8A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C3419FB3-312E-49CC-A747-D9765744FC9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830E1499-E49F-486B-ACAA-C9D081D8BEB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F0770B72-7B39-4722-A7CC-3B0C631A4C1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62D8C6F1-4FC9-4FB4-8CBD-F6BF1682CE9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D89F2D81-9E21-49BA-A944-F26CB68DAAF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67E8ECF6-52E1-41D2-8C08-2FE75462159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066EF57E-70DC-4B0C-B55E-2909E31379A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6ED550D4-EA38-4886-B61F-32C10463061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77AC63E9-E926-41B2-BE7C-DDE91849989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D70A6C87-EEC4-495E-A83F-E8C2F48C5F5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7B598A60-6F47-470D-AE81-79609CA8C7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B7ABF3A-B251-4976-8D40-1FE5D49A057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08139FB8-7C92-4CB3-9076-795BBD286F0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C9D33058-C043-456B-BBAD-A9A24D33DFA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7284A87F-304D-4F04-8EB6-D4334A69E4D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E840B599-276E-4A08-B11A-47E6D371129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6B2861B-06C1-429B-AACD-2D4C0E27BBFA}"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9BFF92B7-83FC-4785-96AF-D81AA51CB0F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B10B15D3-925D-4863-AB4B-CC96BEF180A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9A7743C4-017E-4374-AD0D-3D7F179EBB6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8C1CE102-EF8A-439B-A2D3-E2EF518A564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EB378F3-36EF-4FCC-B671-2CF5EA92AF8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CD081C3-0700-4419-8111-9A3F12DF75A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74291E4F-3D34-40C6-941D-BB1B628F4CB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5A846B9D-8E8C-4F5C-85B7-4EB62A0B48F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8D4477D5-0ED3-45AE-8CC5-EE82CF8AAA4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88B8C67-A9A4-4073-82D6-CA68E2D4610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D41BCB2E-33FB-4BBF-9DAF-8E9BF030C906}"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730112A7-36A4-4643-975D-15C39618C38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E9877A97-3762-468C-A413-E76803F09B8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6"/>
          </p:nvPr>
        </p:nvSpPr>
        <p:spPr/>
        <p:txBody>
          <a:bodyPr/>
          <a:p>
            <a:fld id="{2F604C08-1988-4AF5-8577-E0EFFB89BAF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536142D4-5CF3-489F-8DDC-97207649D6A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25272559-B75A-42B7-9E73-DAF9A73774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195C42B-5F35-4365-AF50-0EABCE68CBE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1E72B143-43F9-4FDF-AA84-4E242345DA0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5D2A6445-DFF7-4431-B45F-55EAC5C6D28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21033155-D1C6-4266-9EF5-08A3E5C0242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5B531F54-385F-42BE-B057-97519E173BA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F455EDDE-E23F-4D36-94A6-6CB27FFF8DA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D1F2594-A2A3-4AC8-BD86-E29FFD729E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710123E-6C21-4E70-B507-5CFA70A2C2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78B3A89-D0FD-4671-87AE-64DE05F613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EEEFFF2-CDF7-4A1D-A939-AC35FB70C1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E217E58-8593-4CE6-9B02-8850A81BBA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C7830F2-35AC-46D9-B2AB-07622E5FFCEE}"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A7575CD-BBBC-4505-801C-FA60B32839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39E42AA-9DF6-4B7C-8E09-E8F966916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1DA66CE-4467-4766-81AA-68BD941ABC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1B5A93-0BB3-43B9-8022-272714B6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CC6E12D-6CD0-4DEB-990D-D348CA99F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104A2B2-F8B7-4BEB-81EF-BF9FEF560C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49E2B38-0991-4A3F-B17A-1309E04B58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169055B-ABD6-4A48-A3DF-629A0253189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C36641B-2704-4F9D-8BF7-890B5ED8207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46EE9DE-0B67-4BAA-8066-1D5EE326672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3ADDB94-7B98-47DD-83A4-6CFF5CC61836}"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B074F90-D329-4315-B445-6F434560D5E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55A5CE9-0A4E-4655-A16F-814127CB4A2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93124B6-4687-41F6-B6D2-6AEE59E78A1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F3F38C9-882B-4D7A-B9E9-C0CE276BB5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40042AB-9668-47A3-8700-3B39042A0A9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09B5D00-2CCF-44FD-A14D-06B79961895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2A8DDE8-5D5A-4202-B0A5-6B5DFF6BA11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4A12C1A-2C55-43E6-B387-B8CA12F176F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AB6D2B68-CCD0-4684-B932-2615BDB27A9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6288B07-4930-419B-B29B-9C78EAAEB15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0DCE036-6019-4ADE-A593-315A7148F7EA}"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42F07EF-0BA7-4A9C-B590-4FCFB0F30FF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90AE2AE-6A81-47E1-9015-E8E4BFE33D3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FAF0E58-AB71-4FD2-A774-B4BEBDA2B84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1E3EB67-0490-4722-AC53-66CC2B33237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C35F961-C1B5-4C5B-A54F-F1DCACA5D53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7C7CBE9-1FA4-4790-9353-7F0F352275A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DD8E387-FA08-4515-B0F4-55802541012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9153CD9-AF38-4600-A63C-20E2BBA5C49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DCE1576-8B34-4620-9F9F-378FB7DCE08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B46BE88-D8B3-42D5-8649-6BD6679AF6A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EEDA4E0-C666-4419-93C7-A5444404183F}"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DEE0902-585E-48EE-AA16-5B30FC9A065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ED229D8-FC9B-4B3D-9B75-09C2E1A3326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3DF0101-3933-4935-A7DC-51B54E25E93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3DD4729-309A-4DD2-BDE0-2133127B932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32DFAD1-3EE6-430B-8ADD-1EDD68BD2B7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C00F388-43D5-4981-8A5D-050956E37E6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7B2A99F-AF2C-45C8-A937-4643C515FD6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5A50E56-B0A3-4905-A227-2A252F56C10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12C9E70-3BCA-4836-9511-ED3C927548F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1C9D4BF-4D58-4700-BC6C-24AA475DDDE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8B9F0DF-EBE7-4D8A-B5FC-FA134419FB00}"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9E9B396-7306-42DE-AF04-12A7468CD11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8E65A90-4BC4-4BF2-B274-015FC5D0CB1D}"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C9A7BAC-B215-491D-ABF7-9DDBD039897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941820F4-22E1-4318-9588-8A7423A1EE2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281F1AE-CBD9-43AD-ADD5-C4D104459EE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7B53D07-4418-4EEF-8AB8-6406317F764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CCF8615-BF79-4FE3-8B79-419DDFCE10E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8FF8604-FA8E-458C-A532-5CA844238EB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1C2B6DB-55ED-4D56-87FA-5BA2B320A80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015BA96-EC70-45DF-9021-C6E5F6C51D1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E76A139B-AC1E-4346-AE2D-B30F1A46F7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ACE3037-84FB-41AA-9815-10EEF048F49D}"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DAF8847-681C-4568-90EB-914A82E01BC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45758E1-25F2-4863-A07E-AF45EE3F9CF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743DB4D-FDB2-4A66-AA8C-7B78979D5E3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1E749ACD-2928-4453-8280-FD3661FBEE6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A4E31AC-2387-4555-87D9-882A83AF779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455D0C82-0402-4FC7-A615-932FD3CE717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CBAB06B-DB83-49DB-A3FD-13A279AE57B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12684ED-20A5-4D40-9CA0-1BC2762D0F8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3258668-3569-43FB-9CBA-E0BBDC2D466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ABC02EF-EC47-4430-8214-0B53310A734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B866C7B-A32D-40A9-9F28-FE16020A267F}"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E7BB41B-8769-4B15-8D6D-CEEB087D7E6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4D7A762-F12D-4107-921E-AC2CD66641A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473EE86-08AB-4EF9-8A2B-5E05E30EF93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1789F38-1B98-408C-B6A8-E152F5B066E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3D62336-A4E5-4192-8AE2-5578F88B2A6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50B9F66-43B6-4C4E-8F08-91E7A2CC820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A0996512-F17D-43A6-973F-8EC6487B1E1F}"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F086FAC9-3BC3-491F-BA8D-93FB46C840F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65A4479-3FD1-4634-B2C6-74F3C3C6B7E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FF5524B-7E6A-4C98-9220-D388FCBA714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0BA07FA-9853-44B7-BAB3-4F238F375EE1}"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7770451-61EE-4B52-8C1D-4EAED36AF92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3B0BEB6-CB35-4448-B4CC-DEB20D294B6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F8E35D4-CE5C-479A-8F83-1962673C7DD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3E4906D-F50C-4351-9C4C-F886A755B23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8988BBE-69F4-4A1A-8609-3699C15B77B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D08DEA9-9C9C-4B2B-8A18-8CB5082F61E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C621C7F-9E7F-4FDF-83FA-BBEB05D002B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0FB013B-6602-4E9F-ADFE-31B075D0037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CC2C2B6-2E17-48C0-A62F-7ABD20A21C1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B3FA13F-062D-48E2-BA47-74379887B37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5FFFC1A7-0710-43C3-9FA2-C1676482A3E8}"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1AEEBCA-20C7-4086-AB92-86FCC7072C5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B8BAB19-62E3-4F73-8AC8-CA1607AB534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BBAD88F-7468-4075-AB7C-27BB231B009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83CFE19-BA0D-4A3C-8134-9258F49B3BA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28A6FDD-4315-4C6B-A2E2-1205CE44ED9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2AB9106-57D3-44F5-A170-78E76D893FD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FD077DD-525B-40EE-948C-EA3E4024EDA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4FB3CA2-FC07-463A-B8D8-78173FE34AA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FF1E9A7-10DE-456B-ABBA-C88521B518F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064301C-2601-4412-A374-6458E9C3844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7EA3902-8D17-4F85-83C5-F0961B8CB9E7}"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8F11453-8432-4124-AD71-59B4F16F7DBA}"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87FB81B2-B966-452B-8111-DC205D15116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2263A75-ADE4-43B5-A744-4076E9E533A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4ECB3AB-1FEC-461A-9FB7-6B1345120CE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7431562-DD2D-4E37-82D4-0CCD3AEFD33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4412C0A-1C6F-4815-B891-E8D7B592A54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1C1F3AC-9A24-48BD-AB42-D38F395560F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35793EE-F558-4E57-9CB8-118F68E7CFD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42B6511-1E58-43B6-AE0C-7E49F179377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18101AF-42D2-42D5-84A6-D07B507E811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359D3FA-B037-4A75-8422-E0F2C03D362C}"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63C9528-03D3-402B-B633-68F5AD71FEF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20D704D-7AA6-4567-9E61-4AEE769EC43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0485D78A-8756-49CC-B6C5-87C90A4CF824}"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F0967DD8-E238-4206-A65F-B936E939A87F}"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9991EFD9-424E-41FC-A025-4C92DB6153D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6E8B5CD0-715F-4B21-B343-1C9990E10746}"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667EB6F-A3D8-466E-938C-07233BDB788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3EEDDD7-C865-45E2-A3FB-6A9AD98AFD29}"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D1145CF-A27E-48DF-9879-992E6FE72AAA}"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5B25DA9-87A7-4051-BF0A-2AB1812D78D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54737BB-710D-4108-B1A1-277B3223B616}"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DC910C7-FCBB-4284-998E-93FCE59A435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FFF016A9-F633-4CA7-953A-B24357811DD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7CB3A29F-9DCC-45A7-AC4F-BC924C76F84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4FE7D776-0580-4EE4-9006-60DB1BAF5444}"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26F1DEA8-134A-48B5-B127-1ED73206828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07013F09-D2FB-4405-ABB6-92CA8A32325E}"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A334359E-1DD0-43A2-ABE6-445FF9DC87B8}"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D20C3BF6-635E-4652-A14B-CF2F7CBBC93A}"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8C3BBF54-2D61-40A1-B8BB-92B30588AD16}"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0273907-B900-4BDF-9BE9-F84B9102245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6805EC8-7162-4D85-AA1E-9A6838B398D9}"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6FB82EDD-AD5F-4E86-8599-9EDF60E357F1}"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C41F934A-3D44-4A37-8EF7-DE3C74B5025A}"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B87F372-0843-43B3-9F96-03C2BFBB222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6AA2D3A5-C6AF-4A7F-A5D4-9B18C516E892}"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F7572ED0-2736-4645-ADA1-A45C82B2F87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F63EEE59-8FAD-4E86-8AA4-1213C8FBC2FC}"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90482DF0-B289-4E67-AE1C-44729ADD25CD}"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E79A7A2-A709-4B2F-890E-77CC92476B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CF26624-E78B-4D45-8425-911BD31931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D699D71-1E57-41B8-972E-87CA699169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A99BA37-175D-4965-9ABA-1C777455C5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0A629B2-A61C-43F4-813D-F3E1DDECA9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31AFB7B-1343-491E-ADA8-0E56D9A5C9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C6C954A-7941-44BA-9D63-8C0D053FC5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CA16DB8-1AE8-4D28-9B2B-C4533A8C360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28F4542A-0358-434F-BFE8-EA7DA3830E9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38D89BD-EEE9-4E70-9B0A-134D92C380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6F784A8-5B75-4F7E-95F1-4714220E45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5795836-95D1-40E8-9BD5-9E0BB1E73D5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52606F1-DAB3-4F0B-B7BB-915218D660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F7ECD7-32D3-4CB3-98A1-5D3FDB350A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0038D38-CFB9-4FEA-AA7D-48DEDD717E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D9F402B-B884-46EB-9CB2-95D1EF2FF72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81E72A3-7F27-499E-A94A-FF1472F5FD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8441A1D-03CF-4A01-94D9-198948ABE2A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E13E87D-A219-40B7-BCA4-8BE167E418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2988B7D-7C50-4BE3-A6C0-7839FB9BBE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2C56A00-357E-4457-A279-1CED264474C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29A5CD45-56E6-4526-92CF-704DE4A084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E2F257E-062C-42F8-97B6-B24BDF579E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C0174AE-64AC-494E-BF97-011F12426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EE8795-9949-4256-8508-803A59B28E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AF7F2FD-6499-4D2F-9335-FAB22A8542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77B0A30-E38E-4755-B384-50DF85B463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7BC0EDF-23AF-4728-A272-C783D1D2D8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F1B9306-76A8-4BAC-88B8-4AA45F0B39D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A66B0E8-41AF-48F5-A539-8629B22C4B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14D2A47-8634-4087-B5DD-63D780D1DA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03CEA98-8538-4AD4-8C55-00ABE66C72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B450A22B-45F2-4256-93FC-C7F4429DF4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761A818-7CE4-4D8C-8F26-0C7B8D2DD4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7BFAF8F5-BC2D-4B38-A4E6-6D8654C16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E2C875-DD19-4609-BC72-ECF17CBFA5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A07436A8-C86A-4065-B391-B92FA4FB4A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95CCB4D-21A3-4D8D-9BDA-A52213058D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EEF4BBD-CBDB-4CE3-9791-C98CE62CDE5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F27C2E8-0C45-48FE-9593-66CC04D2F8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15418863-259B-48FA-B5C3-5667828BE0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5A748E0E-7473-4CA1-A469-D51A666C55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E754207-5C53-4F10-9ADA-3654871CED4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9CDB86D-28A0-4387-AE3E-4CEC443AA8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1833E9C-A7AC-40E0-803B-2531E8843A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442E7D7-4656-4FDA-B4B8-C03A9B9AD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7.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454F5C0-E42E-4C5A-94C0-8BF89B8B394B}"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3445A1D-E355-44F7-B8C8-41800D4B40C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ED5F744-F016-4EF0-89D0-32AE68D4914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32725F9-B4C6-4285-AC7E-0A82AC696EB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DCE7A2B-9AFC-4445-9C8F-2209542C594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DDDBEE4-901C-498F-A0DC-14A59E845FB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82380BC-C284-4F5C-B934-9039CD15748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753242A-3BBC-40CA-9758-45898CFEBE0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40D3D68-98D0-4506-B00D-B1750E40C86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43453D8-F7EE-4432-A05E-19854769D6D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DBF46C2-1DE3-47AF-BDC1-B9D05C489F2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0C013FA-2A8E-4FE9-BC4D-34BEB2196EB8}"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52FD201-4850-4CEA-B7BB-D7AE20975BB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F2B14F0-8D6F-41AE-B7AB-99680B7BE5B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8DEC177-332D-4FFA-958A-8467D74EAF9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8B22ADA-EE2A-47BD-A0D6-3D8E75B94053}"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3781686-AC0F-4ED5-A19F-14A07B175DF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C62F553-E1ED-4DBC-855E-576730D866E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02F8633-6938-4F18-B83E-E487E78E0DC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BED194A-09E0-4B82-A5E8-A8595C1E06A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35D1DCA-6F9D-40E7-BFB5-7BC55903B55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58BED59-EC0F-49AC-B2BC-B53453CFC0F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1F57-42D9-4715-9D1D-DBF0497118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E666FCD7-4143-4E51-93F8-E4136996DABE}"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1D9CFEB4-B83B-4395-842C-262B999EEBEF}"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3CEA1F26-C396-466F-8EEA-95A1EC1BAAF2}"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11A742B9-E90A-4F46-8DF7-E35C3C1E6F01}"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A7E76AD7-7B8F-4BBC-A418-DC028D75D949}"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05474699-EEF1-47A8-8B83-DF64BABF1238}"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EEDDBDE-6C60-4CE4-9454-FFD70BC2FFE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7" name="Picture 2" descr="J:\Communications &amp; Outreach\Stock Photos\NGSS\86491665.jpg"/>
          <p:cNvPicPr/>
          <p:nvPr/>
        </p:nvPicPr>
        <p:blipFill>
          <a:blip r:embed="rId2"/>
          <a:stretch/>
        </p:blipFill>
        <p:spPr>
          <a:xfrm>
            <a:off x="7245360" y="268200"/>
            <a:ext cx="1739880" cy="1123920"/>
          </a:xfrm>
          <a:prstGeom prst="rect">
            <a:avLst/>
          </a:prstGeom>
          <a:ln w="9360">
            <a:solidFill>
              <a:srgbClr val="303a96"/>
            </a:solidFill>
            <a:miter/>
          </a:ln>
        </p:spPr>
      </p:pic>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0" name="PlaceHolder 3"/>
          <p:cNvSpPr>
            <a:spLocks noGrp="1"/>
          </p:cNvSpPr>
          <p:nvPr>
            <p:ph type="sldNum" idx="46"/>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7B158E-9CFA-46F1-AA8A-5C45A0FB8301}"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98" name="Picture 2" descr=""/>
          <p:cNvPicPr/>
          <p:nvPr/>
        </p:nvPicPr>
        <p:blipFill>
          <a:blip r:embed="rId2"/>
          <a:stretch/>
        </p:blipFill>
        <p:spPr>
          <a:xfrm>
            <a:off x="7238880" y="457200"/>
            <a:ext cx="1524240" cy="401760"/>
          </a:xfrm>
          <a:prstGeom prst="rect">
            <a:avLst/>
          </a:prstGeom>
          <a:ln w="0">
            <a:noFill/>
          </a:ln>
        </p:spPr>
      </p:pic>
      <p:sp>
        <p:nvSpPr>
          <p:cNvPr id="15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2"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3"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65D2FCE-D08A-4003-9513-8DDB545086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1" name="Picture 2" descr=""/>
          <p:cNvPicPr/>
          <p:nvPr/>
        </p:nvPicPr>
        <p:blipFill>
          <a:blip r:embed="rId2"/>
          <a:stretch/>
        </p:blipFill>
        <p:spPr>
          <a:xfrm>
            <a:off x="7238880" y="457200"/>
            <a:ext cx="1524240" cy="401760"/>
          </a:xfrm>
          <a:prstGeom prst="rect">
            <a:avLst/>
          </a:prstGeom>
          <a:ln w="0">
            <a:noFill/>
          </a:ln>
        </p:spPr>
      </p:pic>
      <p:sp>
        <p:nvSpPr>
          <p:cNvPr id="16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4"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5"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6"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7849AA8-5017-4448-80D8-7210ADF5A5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D66A227-0F20-425A-9D7E-818F9C6CE72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4" name="Picture 2" descr=""/>
          <p:cNvPicPr/>
          <p:nvPr/>
        </p:nvPicPr>
        <p:blipFill>
          <a:blip r:embed="rId2"/>
          <a:stretch/>
        </p:blipFill>
        <p:spPr>
          <a:xfrm>
            <a:off x="7238880" y="457200"/>
            <a:ext cx="1524240" cy="401760"/>
          </a:xfrm>
          <a:prstGeom prst="rect">
            <a:avLst/>
          </a:prstGeom>
          <a:ln w="0">
            <a:noFill/>
          </a:ln>
        </p:spPr>
      </p:pic>
      <p:sp>
        <p:nvSpPr>
          <p:cNvPr id="16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8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3300A6-8444-454E-A42F-AEE344C2E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27" name="Picture 2" descr=""/>
          <p:cNvPicPr/>
          <p:nvPr/>
        </p:nvPicPr>
        <p:blipFill>
          <a:blip r:embed="rId2"/>
          <a:stretch/>
        </p:blipFill>
        <p:spPr>
          <a:xfrm>
            <a:off x="7238880" y="457200"/>
            <a:ext cx="1524240" cy="401760"/>
          </a:xfrm>
          <a:prstGeom prst="rect">
            <a:avLst/>
          </a:prstGeom>
          <a:ln w="0">
            <a:noFill/>
          </a:ln>
        </p:spPr>
      </p:pic>
      <p:sp>
        <p:nvSpPr>
          <p:cNvPr id="17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0"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1"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2"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97B290E-D442-4936-9802-4537F4612F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0" name="Picture 2" descr=""/>
          <p:cNvPicPr/>
          <p:nvPr/>
        </p:nvPicPr>
        <p:blipFill>
          <a:blip r:embed="rId2"/>
          <a:stretch/>
        </p:blipFill>
        <p:spPr>
          <a:xfrm>
            <a:off x="7238880" y="457200"/>
            <a:ext cx="1524240" cy="401760"/>
          </a:xfrm>
          <a:prstGeom prst="rect">
            <a:avLst/>
          </a:prstGeom>
          <a:ln w="0">
            <a:noFill/>
          </a:ln>
        </p:spPr>
      </p:pic>
      <p:sp>
        <p:nvSpPr>
          <p:cNvPr id="17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3"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4"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5"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9213411-B6CA-43C9-B010-5CBCC41D2B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3" name="Picture 2" descr=""/>
          <p:cNvPicPr/>
          <p:nvPr/>
        </p:nvPicPr>
        <p:blipFill>
          <a:blip r:embed="rId2"/>
          <a:stretch/>
        </p:blipFill>
        <p:spPr>
          <a:xfrm>
            <a:off x="7238880" y="457200"/>
            <a:ext cx="1524240" cy="401760"/>
          </a:xfrm>
          <a:prstGeom prst="rect">
            <a:avLst/>
          </a:prstGeom>
          <a:ln w="0">
            <a:noFill/>
          </a:ln>
        </p:spPr>
      </p:pic>
      <p:sp>
        <p:nvSpPr>
          <p:cNvPr id="18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6"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7"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18"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6435C4A-EBC5-491D-ABE6-2B723CA906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6" name="Picture 2" descr=""/>
          <p:cNvPicPr/>
          <p:nvPr/>
        </p:nvPicPr>
        <p:blipFill>
          <a:blip r:embed="rId2"/>
          <a:stretch/>
        </p:blipFill>
        <p:spPr>
          <a:xfrm>
            <a:off x="7238880" y="457200"/>
            <a:ext cx="1524240" cy="401760"/>
          </a:xfrm>
          <a:prstGeom prst="rect">
            <a:avLst/>
          </a:prstGeom>
          <a:ln w="0">
            <a:noFill/>
          </a:ln>
        </p:spPr>
      </p:pic>
      <p:sp>
        <p:nvSpPr>
          <p:cNvPr id="18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9"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0"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1"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470C9C-8813-4DB9-81F7-3DA28C944F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99" name="Picture 2" descr=""/>
          <p:cNvPicPr/>
          <p:nvPr/>
        </p:nvPicPr>
        <p:blipFill>
          <a:blip r:embed="rId2"/>
          <a:stretch/>
        </p:blipFill>
        <p:spPr>
          <a:xfrm>
            <a:off x="7238880" y="457200"/>
            <a:ext cx="1524240" cy="401760"/>
          </a:xfrm>
          <a:prstGeom prst="rect">
            <a:avLst/>
          </a:prstGeom>
          <a:ln w="0">
            <a:noFill/>
          </a:ln>
        </p:spPr>
      </p:pic>
      <p:sp>
        <p:nvSpPr>
          <p:cNvPr id="19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2"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3"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4"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7554D1D-CD0A-4841-AD84-0E28FA48C0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2" name="Picture 2" descr=""/>
          <p:cNvPicPr/>
          <p:nvPr/>
        </p:nvPicPr>
        <p:blipFill>
          <a:blip r:embed="rId2"/>
          <a:stretch/>
        </p:blipFill>
        <p:spPr>
          <a:xfrm>
            <a:off x="7238880" y="457200"/>
            <a:ext cx="1524240" cy="401760"/>
          </a:xfrm>
          <a:prstGeom prst="rect">
            <a:avLst/>
          </a:prstGeom>
          <a:ln w="0">
            <a:noFill/>
          </a:ln>
        </p:spPr>
      </p:pic>
      <p:sp>
        <p:nvSpPr>
          <p:cNvPr id="19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5"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6"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47"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F577B07-30D1-4C47-85C5-CF9FE4FA07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5" name="Picture 2" descr=""/>
          <p:cNvPicPr/>
          <p:nvPr/>
        </p:nvPicPr>
        <p:blipFill>
          <a:blip r:embed="rId2"/>
          <a:stretch/>
        </p:blipFill>
        <p:spPr>
          <a:xfrm>
            <a:off x="7238880" y="457200"/>
            <a:ext cx="1524240" cy="401760"/>
          </a:xfrm>
          <a:prstGeom prst="rect">
            <a:avLst/>
          </a:prstGeom>
          <a:ln w="0">
            <a:noFill/>
          </a:ln>
        </p:spPr>
      </p:pic>
      <p:sp>
        <p:nvSpPr>
          <p:cNvPr id="19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8"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89" name="PlaceHolder 4"/>
          <p:cNvSpPr>
            <a:spLocks noGrp="1"/>
          </p:cNvSpPr>
          <p:nvPr>
            <p:ph type="ftr" idx="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0" name="PlaceHolder 5"/>
          <p:cNvSpPr>
            <a:spLocks noGrp="1"/>
          </p:cNvSpPr>
          <p:nvPr>
            <p:ph type="sldNum" idx="7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64DEA5-88BD-4E33-AD0C-9FB748F2FE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28" name="Picture 2" descr=""/>
          <p:cNvPicPr/>
          <p:nvPr/>
        </p:nvPicPr>
        <p:blipFill>
          <a:blip r:embed="rId2"/>
          <a:stretch/>
        </p:blipFill>
        <p:spPr>
          <a:xfrm>
            <a:off x="7238880" y="457200"/>
            <a:ext cx="1524240" cy="401760"/>
          </a:xfrm>
          <a:prstGeom prst="rect">
            <a:avLst/>
          </a:prstGeom>
          <a:ln w="0">
            <a:noFill/>
          </a:ln>
        </p:spPr>
      </p:pic>
      <p:sp>
        <p:nvSpPr>
          <p:cNvPr id="20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2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1" name="PlaceHolder 3"/>
          <p:cNvSpPr>
            <a:spLocks noGrp="1"/>
          </p:cNvSpPr>
          <p:nvPr>
            <p:ph type="dt" idx="7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32" name="PlaceHolder 4"/>
          <p:cNvSpPr>
            <a:spLocks noGrp="1"/>
          </p:cNvSpPr>
          <p:nvPr>
            <p:ph type="ftr" idx="7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033" name="PlaceHolder 5"/>
          <p:cNvSpPr>
            <a:spLocks noGrp="1"/>
          </p:cNvSpPr>
          <p:nvPr>
            <p:ph type="sldNum" idx="7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10BCEA3-8EA5-4654-AED2-19B9B45841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0AB108B-0DFA-4F22-9219-D784FF4442A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9DB36F2-9DCB-47DB-AD3D-C81D4B18DE3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DBA948E-C22B-44E5-A7AF-1CD442D55C3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15D2EAE-009C-4E3E-AE58-DBCE6C674CA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8D35B8F-0D55-4394-A375-4272D27C123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mailto:edward.mcgrath@redclay.k12.de.us" TargetMode="External"/><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jpeg"/><Relationship Id="rId8" Type="http://schemas.openxmlformats.org/officeDocument/2006/relationships/hyperlink" Target="http://www.nap.edu/catalog.php?record_id=13165" TargetMode="External"/><Relationship Id="rId9" Type="http://schemas.openxmlformats.org/officeDocument/2006/relationships/image" Target="../media/image33.jpeg"/><Relationship Id="rId10" Type="http://schemas.openxmlformats.org/officeDocument/2006/relationships/slideLayout" Target="../slideLayouts/slideLayout517.xml"/><Relationship Id="rId11"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doe.k12.de.us/infosuites/staff/ci/content_areas/science.shtml"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7" name="Picture 2" descr="Untitled-1"/>
          <p:cNvPicPr/>
          <p:nvPr/>
        </p:nvPicPr>
        <p:blipFill>
          <a:blip r:embed="rId1"/>
          <a:stretch/>
        </p:blipFill>
        <p:spPr>
          <a:xfrm>
            <a:off x="380880" y="77760"/>
            <a:ext cx="8458200" cy="2629080"/>
          </a:xfrm>
          <a:prstGeom prst="rect">
            <a:avLst/>
          </a:prstGeom>
          <a:ln w="0">
            <a:noFill/>
          </a:ln>
        </p:spPr>
      </p:pic>
      <p:sp>
        <p:nvSpPr>
          <p:cNvPr id="207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7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098BDC1-B66E-4822-810D-FB3C87CB7B09}"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8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8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8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uiding Principles of the Cross-Cutting Concepts</a:t>
            </a:r>
            <a:endParaRPr b="0" lang="en-US" sz="2400" spc="-1" strike="noStrike">
              <a:solidFill>
                <a:srgbClr val="000000"/>
              </a:solidFill>
              <a:latin typeface="Arial"/>
            </a:endParaRPr>
          </a:p>
        </p:txBody>
      </p:sp>
      <p:sp>
        <p:nvSpPr>
          <p:cNvPr id="2106"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core ideas in science and engineering.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science and engineering practices. </a:t>
            </a:r>
            <a:endParaRPr b="0" lang="en-US" sz="1900" spc="-1" strike="noStrike">
              <a:solidFill>
                <a:srgbClr val="000000"/>
              </a:solidFill>
              <a:latin typeface="Arial"/>
            </a:endParaRPr>
          </a:p>
        </p:txBody>
      </p:sp>
      <p:sp>
        <p:nvSpPr>
          <p:cNvPr id="2107" name=""/>
          <p:cNvSpPr txBox="1"/>
          <p:nvPr/>
        </p:nvSpPr>
        <p:spPr>
          <a:xfrm>
            <a:off x="4626000" y="1600200"/>
            <a:ext cx="4060800" cy="4525920"/>
          </a:xfrm>
          <a:prstGeom prst="rect">
            <a:avLst/>
          </a:prstGeom>
          <a:noFill/>
          <a:ln w="0">
            <a:noFill/>
          </a:ln>
        </p:spPr>
        <p:txBody>
          <a:bodyPr anchor="t">
            <a:normAutofit fontScale="99000"/>
          </a:bodyPr>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should grow in complexity and sophistication across the grade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are for </a:t>
            </a:r>
            <a:r>
              <a:rPr b="1" i="1" lang="en-US" sz="1900" spc="-1" strike="noStrike">
                <a:solidFill>
                  <a:srgbClr val="000000"/>
                </a:solidFill>
                <a:latin typeface="Arial"/>
              </a:rPr>
              <a:t>all </a:t>
            </a:r>
            <a:r>
              <a:rPr b="1" lang="en-US" sz="1900" spc="-1" strike="noStrike">
                <a:solidFill>
                  <a:srgbClr val="000000"/>
                </a:solidFill>
                <a:latin typeface="Arial"/>
              </a:rPr>
              <a:t>student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onclusion:  </a:t>
            </a:r>
            <a:r>
              <a:rPr b="0" lang="en-US" sz="1900" spc="-1" strike="noStrike">
                <a:solidFill>
                  <a:srgbClr val="000000"/>
                </a:solidFill>
                <a:latin typeface="Arial"/>
              </a:rPr>
              <a:t>it is essential that </a:t>
            </a:r>
            <a:r>
              <a:rPr b="0" i="1" lang="en-US" sz="1900" spc="-1" strike="noStrike">
                <a:solidFill>
                  <a:srgbClr val="000000"/>
                </a:solidFill>
                <a:latin typeface="Arial"/>
              </a:rPr>
              <a:t>all students </a:t>
            </a:r>
            <a:r>
              <a:rPr b="0" lang="en-US" sz="1900" spc="-1" strike="noStrike">
                <a:solidFill>
                  <a:srgbClr val="000000"/>
                </a:solidFill>
                <a:latin typeface="Arial"/>
              </a:rPr>
              <a:t>engage in using crosscutting concepts, which could result in leveling the playing field and promoting deeper understanding for all student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8"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110"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1"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2"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3"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4"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5"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6"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7"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8"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9"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20"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21"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122" name="Picture 46" descr="C:\Users\edward.mcgrath\AppData\Local\Microsoft\Windows\Temporary Internet Files\Content.IE5\P077J5IX\MC900334846[1].wmf"/>
          <p:cNvPicPr/>
          <p:nvPr/>
        </p:nvPicPr>
        <p:blipFill>
          <a:blip r:embed="rId2"/>
          <a:stretch/>
        </p:blipFill>
        <p:spPr>
          <a:xfrm rot="18912000">
            <a:off x="1909440" y="5208120"/>
            <a:ext cx="1436760" cy="2094120"/>
          </a:xfrm>
          <a:prstGeom prst="rect">
            <a:avLst/>
          </a:prstGeom>
          <a:ln w="0">
            <a:noFill/>
          </a:ln>
        </p:spPr>
      </p:pic>
      <p:sp>
        <p:nvSpPr>
          <p:cNvPr id="2123"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24"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125"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26"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127"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sp>
        <p:nvSpPr>
          <p:cNvPr id="2128"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29"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30" name="Rectangle 1"/>
          <p:cNvSpPr/>
          <p:nvPr/>
        </p:nvSpPr>
        <p:spPr>
          <a:xfrm>
            <a:off x="76320" y="6095880"/>
            <a:ext cx="1304640" cy="711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132"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u="sng">
                <a:solidFill>
                  <a:srgbClr val="0000ff"/>
                </a:solidFill>
                <a:uFillTx/>
                <a:latin typeface="Arial"/>
                <a:hlinkClick r:id="rId1"/>
              </a:rPr>
              <a:t>www.nextgenscience.org</a:t>
            </a:r>
            <a:endParaRPr b="0" lang="en-US" sz="2800" spc="-1" strike="noStrike">
              <a:solidFill>
                <a:srgbClr val="000000"/>
              </a:solidFill>
              <a:latin typeface="Arial"/>
            </a:endParaRPr>
          </a:p>
          <a:p>
            <a:pPr marL="341280" indent="-341280">
              <a:spcBef>
                <a:spcPts val="70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134" name="Picture 5" descr=""/>
          <p:cNvPicPr/>
          <p:nvPr/>
        </p:nvPicPr>
        <p:blipFill>
          <a:blip r:embed="rId1"/>
          <a:srcRect l="16047" t="27380" r="0" b="3855"/>
          <a:stretch/>
        </p:blipFill>
        <p:spPr>
          <a:xfrm>
            <a:off x="-152280" y="0"/>
            <a:ext cx="1151568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35" name="Picture 5" descr=""/>
          <p:cNvPicPr/>
          <p:nvPr/>
        </p:nvPicPr>
        <p:blipFill>
          <a:blip r:embed="rId1"/>
          <a:srcRect l="17333" t="15685" r="18745" b="7870"/>
          <a:stretch/>
        </p:blipFill>
        <p:spPr>
          <a:xfrm>
            <a:off x="76320" y="304920"/>
            <a:ext cx="9067680" cy="655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ppendices</a:t>
            </a:r>
            <a:endParaRPr b="0" lang="en-US" sz="3200" spc="-1" strike="noStrike">
              <a:solidFill>
                <a:srgbClr val="000000"/>
              </a:solidFill>
              <a:latin typeface="Arial"/>
            </a:endParaRPr>
          </a:p>
        </p:txBody>
      </p:sp>
      <p:sp>
        <p:nvSpPr>
          <p:cNvPr id="2137"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138"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9"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Will the NGSS Not Do?</a:t>
            </a:r>
            <a:endParaRPr b="0" lang="en-US" sz="4600" spc="-1" strike="noStrike">
              <a:solidFill>
                <a:srgbClr val="000000"/>
              </a:solidFill>
              <a:latin typeface="Calibri"/>
            </a:endParaRPr>
          </a:p>
        </p:txBody>
      </p:sp>
      <p:pic>
        <p:nvPicPr>
          <p:cNvPr id="2140" name="Picture 10" descr=""/>
          <p:cNvPicPr/>
          <p:nvPr/>
        </p:nvPicPr>
        <p:blipFill>
          <a:blip r:embed="rId2"/>
          <a:stretch/>
        </p:blipFill>
        <p:spPr>
          <a:xfrm>
            <a:off x="2730600" y="385920"/>
            <a:ext cx="3365280" cy="1503360"/>
          </a:xfrm>
          <a:prstGeom prst="rect">
            <a:avLst/>
          </a:prstGeom>
          <a:ln w="0">
            <a:noFill/>
          </a:ln>
        </p:spPr>
      </p:pic>
      <p:pic>
        <p:nvPicPr>
          <p:cNvPr id="2141" name="Picture 3" descr=""/>
          <p:cNvPicPr/>
          <p:nvPr/>
        </p:nvPicPr>
        <p:blipFill>
          <a:blip r:embed="rId3"/>
          <a:stretch/>
        </p:blipFill>
        <p:spPr>
          <a:xfrm>
            <a:off x="76320" y="76320"/>
            <a:ext cx="761760" cy="1012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143"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145"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46"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Moving from Standards to Instruction</a:t>
            </a:r>
            <a:endParaRPr b="0" lang="en-US" sz="4600" spc="-1" strike="noStrike">
              <a:solidFill>
                <a:srgbClr val="000000"/>
              </a:solidFill>
              <a:latin typeface="Calibri"/>
            </a:endParaRPr>
          </a:p>
        </p:txBody>
      </p:sp>
      <p:pic>
        <p:nvPicPr>
          <p:cNvPr id="2147" name="Picture 10" descr=""/>
          <p:cNvPicPr/>
          <p:nvPr/>
        </p:nvPicPr>
        <p:blipFill>
          <a:blip r:embed="rId2"/>
          <a:stretch/>
        </p:blipFill>
        <p:spPr>
          <a:xfrm>
            <a:off x="2730600" y="385920"/>
            <a:ext cx="3365280" cy="1503360"/>
          </a:xfrm>
          <a:prstGeom prst="rect">
            <a:avLst/>
          </a:prstGeom>
          <a:ln w="0">
            <a:noFill/>
          </a:ln>
        </p:spPr>
      </p:pic>
      <p:pic>
        <p:nvPicPr>
          <p:cNvPr id="2148" name="Picture 3" descr=""/>
          <p:cNvPicPr/>
          <p:nvPr/>
        </p:nvPicPr>
        <p:blipFill>
          <a:blip r:embed="rId3"/>
          <a:stretch/>
        </p:blipFill>
        <p:spPr>
          <a:xfrm>
            <a:off x="76320" y="76320"/>
            <a:ext cx="761760" cy="1012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day’s goals</a:t>
            </a:r>
            <a:endParaRPr b="0" lang="en-US" sz="4400" spc="-1" strike="noStrike">
              <a:solidFill>
                <a:srgbClr val="000000"/>
              </a:solidFill>
              <a:latin typeface="Arial"/>
            </a:endParaRPr>
          </a:p>
        </p:txBody>
      </p:sp>
      <p:sp>
        <p:nvSpPr>
          <p:cNvPr id="208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and explain the </a:t>
            </a:r>
            <a:r>
              <a:rPr b="0" lang="en-US" sz="2800" spc="-1" strike="noStrike" u="sng">
                <a:solidFill>
                  <a:srgbClr val="000000"/>
                </a:solidFill>
                <a:uFillTx/>
                <a:latin typeface="Arial"/>
              </a:rPr>
              <a:t>conceptual shifts </a:t>
            </a:r>
            <a:r>
              <a:rPr b="0" lang="en-US" sz="2800" spc="-1" strike="noStrike">
                <a:solidFill>
                  <a:srgbClr val="000000"/>
                </a:solidFill>
                <a:latin typeface="Arial"/>
              </a:rPr>
              <a:t>of the NGSS in science instru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ct the </a:t>
            </a:r>
            <a:r>
              <a:rPr b="0" lang="en-US" sz="2800" spc="-1" strike="noStrike" u="sng">
                <a:solidFill>
                  <a:srgbClr val="000000"/>
                </a:solidFill>
                <a:uFillTx/>
                <a:latin typeface="Arial"/>
              </a:rPr>
              <a:t>performance expectations</a:t>
            </a:r>
            <a:r>
              <a:rPr b="0" lang="en-US" sz="2800" spc="-1" strike="noStrike">
                <a:solidFill>
                  <a:srgbClr val="000000"/>
                </a:solidFill>
                <a:latin typeface="Arial"/>
              </a:rPr>
              <a:t> (i.e. standards) of the NGSS in terms of the three </a:t>
            </a:r>
            <a:r>
              <a:rPr b="0" lang="en-US" sz="2800" spc="-1" strike="noStrike" u="sng">
                <a:solidFill>
                  <a:srgbClr val="000000"/>
                </a:solidFill>
                <a:uFillTx/>
                <a:latin typeface="Arial"/>
              </a:rPr>
              <a:t>dimens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an analysis of “look fors” and “ask abouts” in science walkthroughs for classrooms using the </a:t>
            </a:r>
            <a:r>
              <a:rPr b="0" lang="en-US" sz="2800" spc="-1" strike="noStrike" u="sng">
                <a:solidFill>
                  <a:srgbClr val="000000"/>
                </a:solidFill>
                <a:uFillTx/>
                <a:latin typeface="Arial"/>
              </a:rPr>
              <a:t>Science and Engineering Practic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150"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51"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53"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54"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1:  Matter</a:t>
            </a:r>
            <a:endParaRPr b="0" lang="en-US" sz="1400" spc="-1" strike="noStrike">
              <a:solidFill>
                <a:srgbClr val="000000"/>
              </a:solidFill>
              <a:latin typeface="Calibri"/>
            </a:endParaRPr>
          </a:p>
        </p:txBody>
      </p:sp>
      <p:sp>
        <p:nvSpPr>
          <p:cNvPr id="2155"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56"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3:  Energy</a:t>
            </a:r>
            <a:endParaRPr b="0" lang="en-US" sz="1400" spc="-1" strike="noStrike">
              <a:solidFill>
                <a:srgbClr val="000000"/>
              </a:solidFill>
              <a:latin typeface="Calibri"/>
            </a:endParaRPr>
          </a:p>
        </p:txBody>
      </p:sp>
      <p:sp>
        <p:nvSpPr>
          <p:cNvPr id="2157"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58"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2:  Forces</a:t>
            </a:r>
            <a:endParaRPr b="0" lang="en-US" sz="1400" spc="-1" strike="noStrike">
              <a:solidFill>
                <a:srgbClr val="000000"/>
              </a:solidFill>
              <a:latin typeface="Calibri"/>
            </a:endParaRPr>
          </a:p>
        </p:txBody>
      </p:sp>
      <p:sp>
        <p:nvSpPr>
          <p:cNvPr id="2159"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60"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62"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63" name="Picture 6" descr=""/>
          <p:cNvPicPr/>
          <p:nvPr/>
        </p:nvPicPr>
        <p:blipFill>
          <a:blip r:embed="rId3"/>
          <a:stretch/>
        </p:blipFill>
        <p:spPr>
          <a:xfrm>
            <a:off x="228600" y="2438280"/>
            <a:ext cx="1673280" cy="2225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 in Red Clay</a:t>
            </a:r>
            <a:endParaRPr b="0" lang="en-US" sz="4400" spc="-1" strike="noStrike">
              <a:solidFill>
                <a:srgbClr val="000000"/>
              </a:solidFill>
              <a:latin typeface="Arial"/>
            </a:endParaRPr>
          </a:p>
        </p:txBody>
      </p:sp>
      <p:pic>
        <p:nvPicPr>
          <p:cNvPr id="2165" name="Content Placeholder 3" descr=""/>
          <p:cNvPicPr/>
          <p:nvPr/>
        </p:nvPicPr>
        <p:blipFill>
          <a:blip r:embed="rId1"/>
          <a:stretch/>
        </p:blipFill>
        <p:spPr>
          <a:xfrm>
            <a:off x="7162920" y="2057400"/>
            <a:ext cx="1600200" cy="2133720"/>
          </a:xfrm>
          <a:prstGeom prst="rect">
            <a:avLst/>
          </a:prstGeom>
          <a:ln w="0">
            <a:noFill/>
          </a:ln>
        </p:spPr>
      </p:pic>
      <p:sp>
        <p:nvSpPr>
          <p:cNvPr id="2166" name="TextBox 4"/>
          <p:cNvSpPr/>
          <p:nvPr/>
        </p:nvSpPr>
        <p:spPr>
          <a:xfrm>
            <a:off x="838080" y="1905120"/>
            <a:ext cx="5791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Eddie McGrath</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Science Supervisor</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Red Clay Consolidated School District</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302) 552-3768</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u="sng">
                <a:solidFill>
                  <a:srgbClr val="0000ff"/>
                </a:solidFill>
                <a:uFillTx/>
                <a:latin typeface="Calibri"/>
                <a:hlinkClick r:id="rId2"/>
              </a:rPr>
              <a:t>edward.mcgrath@redclay.k12.de.u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68"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69"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70"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71" name="Picture 5" descr=""/>
          <p:cNvPicPr/>
          <p:nvPr/>
        </p:nvPicPr>
        <p:blipFill>
          <a:blip r:embed="rId5"/>
          <a:srcRect l="0" t="0" r="0" b="33226"/>
          <a:stretch/>
        </p:blipFill>
        <p:spPr>
          <a:xfrm>
            <a:off x="685800" y="1506600"/>
            <a:ext cx="2133720" cy="1338120"/>
          </a:xfrm>
          <a:prstGeom prst="rect">
            <a:avLst/>
          </a:prstGeom>
          <a:ln w="0">
            <a:noFill/>
          </a:ln>
        </p:spPr>
      </p:pic>
      <p:pic>
        <p:nvPicPr>
          <p:cNvPr id="2172" name="Picture 6" descr=""/>
          <p:cNvPicPr/>
          <p:nvPr/>
        </p:nvPicPr>
        <p:blipFill>
          <a:blip r:embed="rId6"/>
          <a:srcRect l="0" t="0" r="0" b="19395"/>
          <a:stretch/>
        </p:blipFill>
        <p:spPr>
          <a:xfrm>
            <a:off x="5064120" y="1270080"/>
            <a:ext cx="2479680" cy="1555560"/>
          </a:xfrm>
          <a:prstGeom prst="rect">
            <a:avLst/>
          </a:prstGeom>
          <a:ln w="0">
            <a:noFill/>
          </a:ln>
        </p:spPr>
      </p:pic>
      <p:pic>
        <p:nvPicPr>
          <p:cNvPr id="2173" name="Picture 1" descr=""/>
          <p:cNvPicPr/>
          <p:nvPr/>
        </p:nvPicPr>
        <p:blipFill>
          <a:blip r:embed="rId7"/>
          <a:srcRect l="37903" t="0" r="0" b="0"/>
          <a:stretch/>
        </p:blipFill>
        <p:spPr>
          <a:xfrm>
            <a:off x="3568680" y="4344840"/>
            <a:ext cx="1970280" cy="2378160"/>
          </a:xfrm>
          <a:prstGeom prst="rect">
            <a:avLst/>
          </a:prstGeom>
          <a:ln w="0">
            <a:noFill/>
          </a:ln>
        </p:spPr>
      </p:pic>
      <p:sp>
        <p:nvSpPr>
          <p:cNvPr id="2174"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ea typeface="Arial"/>
                <a:hlinkClick r:id="rId8"/>
              </a:rPr>
              <a:t>A Framework for K-12 Science Education</a:t>
            </a:r>
            <a:br>
              <a:rPr sz="1800"/>
            </a:br>
            <a:br>
              <a:rPr sz="1800"/>
            </a:br>
            <a:endParaRPr b="0" lang="en-US" sz="1800" spc="-1" strike="noStrike">
              <a:solidFill>
                <a:srgbClr val="000000"/>
              </a:solidFill>
              <a:latin typeface="Calibri"/>
            </a:endParaRPr>
          </a:p>
        </p:txBody>
      </p:sp>
      <p:pic>
        <p:nvPicPr>
          <p:cNvPr id="2175"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TextBox 1"/>
          <p:cNvSpPr/>
          <p:nvPr/>
        </p:nvSpPr>
        <p:spPr>
          <a:xfrm>
            <a:off x="457200" y="838080"/>
            <a:ext cx="8458200" cy="19220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Links to the Next Generation Science Standards (NGSS):</a:t>
            </a: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u="sng">
                <a:solidFill>
                  <a:srgbClr val="0000ff"/>
                </a:solidFill>
                <a:uFillTx/>
                <a:latin typeface="Arial"/>
                <a:hlinkClick r:id="rId1"/>
              </a:rPr>
              <a:t>www.nextgenscience.org</a:t>
            </a:r>
            <a:endParaRPr b="0" lang="en-US" sz="2400" spc="-1" strike="noStrike">
              <a:solidFill>
                <a:srgbClr val="000000"/>
              </a:solidFill>
              <a:latin typeface="Calibri"/>
            </a:endParaRPr>
          </a:p>
        </p:txBody>
      </p:sp>
      <p:sp>
        <p:nvSpPr>
          <p:cNvPr id="2088" name="TextBox 2"/>
          <p:cNvSpPr/>
          <p:nvPr/>
        </p:nvSpPr>
        <p:spPr>
          <a:xfrm>
            <a:off x="533520" y="3200400"/>
            <a:ext cx="8458200" cy="18003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Delaware NGSS resources</a:t>
            </a:r>
            <a:endParaRPr b="0" lang="en-US" sz="3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 </a:t>
            </a:r>
            <a:r>
              <a:rPr b="0" lang="en-US" sz="2400" spc="-1" strike="noStrike" u="sng">
                <a:solidFill>
                  <a:srgbClr val="0000ff"/>
                </a:solidFill>
                <a:uFillTx/>
                <a:latin typeface="Arial"/>
                <a:hlinkClick r:id="rId2"/>
              </a:rPr>
              <a:t>http://www.doe.k12.de.us/infosuites/staff/ci/content_areas/science.shtml</a:t>
            </a:r>
            <a:r>
              <a:rPr b="1" lang="en-US" sz="2400" spc="-1" strike="noStrike">
                <a:solidFill>
                  <a:srgbClr val="000000"/>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9"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s Different about the Next Generation Science Standards?</a:t>
            </a:r>
            <a:endParaRPr b="0" lang="en-US" sz="4600" spc="-1" strike="noStrike">
              <a:solidFill>
                <a:srgbClr val="000000"/>
              </a:solidFill>
              <a:latin typeface="Calibri"/>
            </a:endParaRPr>
          </a:p>
        </p:txBody>
      </p:sp>
      <p:pic>
        <p:nvPicPr>
          <p:cNvPr id="2090" name="Picture 10" descr=""/>
          <p:cNvPicPr/>
          <p:nvPr/>
        </p:nvPicPr>
        <p:blipFill>
          <a:blip r:embed="rId2"/>
          <a:stretch/>
        </p:blipFill>
        <p:spPr>
          <a:xfrm>
            <a:off x="2730600" y="385920"/>
            <a:ext cx="3365280" cy="1503360"/>
          </a:xfrm>
          <a:prstGeom prst="rect">
            <a:avLst/>
          </a:prstGeom>
          <a:ln w="0">
            <a:noFill/>
          </a:ln>
        </p:spPr>
      </p:pic>
      <p:pic>
        <p:nvPicPr>
          <p:cNvPr id="2091" name="Picture 3" descr=""/>
          <p:cNvPicPr/>
          <p:nvPr/>
        </p:nvPicPr>
        <p:blipFill>
          <a:blip r:embed="rId3"/>
          <a:stretch/>
        </p:blipFill>
        <p:spPr>
          <a:xfrm>
            <a:off x="76320" y="76320"/>
            <a:ext cx="761760" cy="1012680"/>
          </a:xfrm>
          <a:prstGeom prst="rect">
            <a:avLst/>
          </a:prstGeom>
          <a:ln w="0">
            <a:noFill/>
          </a:ln>
        </p:spPr>
      </p:pic>
      <p:sp>
        <p:nvSpPr>
          <p:cNvPr id="2092" name="TextBox 1"/>
          <p:cNvSpPr/>
          <p:nvPr/>
        </p:nvSpPr>
        <p:spPr>
          <a:xfrm>
            <a:off x="6553080" y="762120"/>
            <a:ext cx="243864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c00000"/>
                </a:solidFill>
                <a:latin typeface="Calibri"/>
              </a:rPr>
              <a:t>This logo is a registered trademark of Achieve. Neither Achieve nor the lead states and partners that developed the Next Generation Science Standards was involved in the production of, and does not endorse, this slideshow or any part of it.</a:t>
            </a:r>
            <a:endParaRPr b="0" lang="en-US" sz="11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94"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96"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97"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title"/>
          </p:nvPr>
        </p:nvSpPr>
        <p:spPr>
          <a:xfrm>
            <a:off x="76320" y="30456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200" spc="-1" strike="noStrike">
                <a:solidFill>
                  <a:srgbClr val="003399"/>
                </a:solidFill>
                <a:latin typeface="Arial"/>
              </a:rPr>
              <a:t>Scientific and Engineering Practices</a:t>
            </a:r>
            <a:endParaRPr b="0" lang="en-US" sz="3200" spc="-1" strike="noStrike">
              <a:solidFill>
                <a:srgbClr val="000000"/>
              </a:solidFill>
              <a:latin typeface="Arial"/>
            </a:endParaRPr>
          </a:p>
        </p:txBody>
      </p:sp>
      <p:sp>
        <p:nvSpPr>
          <p:cNvPr id="2099" name=""/>
          <p:cNvSpPr txBox="1"/>
          <p:nvPr/>
        </p:nvSpPr>
        <p:spPr>
          <a:xfrm>
            <a:off x="533520" y="1600200"/>
            <a:ext cx="8153280" cy="4525920"/>
          </a:xfrm>
          <a:prstGeom prst="rect">
            <a:avLst/>
          </a:prstGeom>
          <a:noFill/>
          <a:ln w="0">
            <a:noFill/>
          </a:ln>
        </p:spPr>
        <p:txBody>
          <a:bodyPr anchor="t">
            <a:normAutofit fontScale="99000"/>
          </a:bodyPr>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sking questions (for science) and defining problems (for engineer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Developing and using model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Planning and carrying out investigation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nalyzing and interpreting data</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Using mathematics and computational think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Constructing explanations (for science) and designing solutions (for  </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engineering)</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7.  Engaging in argument from evidence</a:t>
            </a:r>
            <a:br>
              <a:rPr sz="1900"/>
            </a:b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8.  Obtaining, evaluating, and communicating information</a:t>
            </a:r>
            <a:endParaRPr b="0" lang="en-US" sz="1800" spc="-1" strike="noStrike">
              <a:solidFill>
                <a:srgbClr val="000000"/>
              </a:solidFill>
              <a:latin typeface="Arial"/>
            </a:endParaRPr>
          </a:p>
          <a:p>
            <a:pPr>
              <a:lnSpc>
                <a:spcPct val="8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hy Science and Engineering Practices?</a:t>
            </a:r>
            <a:endParaRPr b="0" lang="en-US" sz="2400" spc="-1" strike="noStrike">
              <a:solidFill>
                <a:srgbClr val="000000"/>
              </a:solidFill>
              <a:latin typeface="Arial"/>
            </a:endParaRPr>
          </a:p>
        </p:txBody>
      </p:sp>
      <p:sp>
        <p:nvSpPr>
          <p:cNvPr id="2101"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gaging in the practices of science helps students understand how scientific knowledge develop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The actual doing of science or engineering can pique students’ curiosity, capture their interest, and motivate their continued study.</a:t>
            </a:r>
            <a:endParaRPr b="0" lang="en-US" sz="1900" spc="-1" strike="noStrike">
              <a:solidFill>
                <a:srgbClr val="000000"/>
              </a:solidFill>
              <a:latin typeface="Arial"/>
            </a:endParaRPr>
          </a:p>
        </p:txBody>
      </p:sp>
      <p:sp>
        <p:nvSpPr>
          <p:cNvPr id="2102" name=""/>
          <p:cNvSpPr txBox="1"/>
          <p:nvPr/>
        </p:nvSpPr>
        <p:spPr>
          <a:xfrm>
            <a:off x="46260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A focus on practices (in the plural) avoids the mistaken impression that there is one distinctive approach common to all science—a single “scientific method”—or that uncertainty is a universal attribute of science.</a:t>
            </a:r>
            <a:br>
              <a:rPr sz="1900"/>
            </a:b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The science walkthrough tool will focus on the use of Science and Engineering Practices by students during instruction.</a:t>
            </a:r>
            <a:endParaRPr b="0" lang="en-US" sz="1900" spc="-1" strike="noStrike">
              <a:solidFill>
                <a:srgbClr val="000000"/>
              </a:solidFill>
              <a:latin typeface="Arial"/>
            </a:endParaRPr>
          </a:p>
          <a:p>
            <a:pPr marL="341280" indent="-34128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b050"/>
                </a:solidFill>
                <a:latin typeface="Arial"/>
              </a:rPr>
              <a:t>Cross-Cutting Concepts</a:t>
            </a:r>
            <a:endParaRPr b="0" lang="en-US" sz="2400" spc="-1" strike="noStrike">
              <a:solidFill>
                <a:srgbClr val="000000"/>
              </a:solidFill>
              <a:latin typeface="Arial"/>
            </a:endParaRPr>
          </a:p>
        </p:txBody>
      </p:sp>
      <p:sp>
        <p:nvSpPr>
          <p:cNvPr id="2104" name=""/>
          <p:cNvSpPr txBox="1"/>
          <p:nvPr/>
        </p:nvSpPr>
        <p:spPr>
          <a:xfrm>
            <a:off x="457200" y="1828800"/>
            <a:ext cx="7238880" cy="3733920"/>
          </a:xfrm>
          <a:prstGeom prst="rect">
            <a:avLst/>
          </a:prstGeom>
          <a:noFill/>
          <a:ln w="0">
            <a:noFill/>
          </a:ln>
        </p:spPr>
        <p:txBody>
          <a:bodyPr anchor="t">
            <a:normAutofit/>
          </a:bodyPr>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Pattern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Cause and effect: Mechanism and explan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cale, proportion, and quantity</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ystems and system model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ergy and matter: Flows, cycles, and conserv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ructure and func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ability and change</a:t>
            </a:r>
            <a:endParaRPr b="0" lang="en-US" sz="1900" spc="-1" strike="noStrike">
              <a:solidFill>
                <a:srgbClr val="000000"/>
              </a:solidFill>
              <a:latin typeface="Arial"/>
            </a:endParaRPr>
          </a:p>
          <a:p>
            <a:pPr marL="457200" indent="-45720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3-08-15T15:17:00Z</cp:lastPrinted>
  <dcterms:modified xsi:type="dcterms:W3CDTF">2014-06-30T19:52:59Z</dcterms:modified>
  <cp:revision>494</cp:revision>
  <dc:subject/>
  <dc:title>Slide 1</dc:title>
</cp:coreProperties>
</file>